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3B40-3656-47FC-B4E9-3A5061D0C43A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8E44-6463-4878-AAEE-1E0F5F672E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9404-87ED-4D36-A7E0-0E7514DAAD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9A96-1F0D-4A97-B07B-AD2B6E7025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E2A8-1BC1-47E6-8674-F4FFFD227C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D322-5FFD-4149-B296-F5B41B7105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BADA-C8E7-455B-8058-EF6BA5E2B6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48D2-C51A-4EC8-9D24-85C6C86A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5DDC00-13E7-468B-B22E-BAADB71C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DDC090-0F01-4D09-9B41-342E1A24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D94661-AFBE-43DE-80E0-FACF71C6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77C32C-A9B0-4ABA-AA43-C40CFB1E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0DAC51-9A21-4971-A6FC-617284FB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3F50D0-03D7-411C-BAB3-4A716A0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9648CF-1D98-42DF-A39D-3BA4B71C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32A3AC-57EC-424D-9A57-11F405A7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228994-F986-43AB-B958-44DF6F28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415889-CFBD-4E39-AC4F-13FD82DC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FD4B-717F-4814-A0C6-94AA32D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FD0B7C-C6F8-49CE-BD19-691A8E5D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3D3E88-C557-4D24-BAD2-3299AD09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C352A2-CAE0-4D50-9444-401AD858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A022DC-994E-49D6-8E12-80D38C3F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D20060-95C7-4D68-BC62-7795F472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4F358F-5EDA-4C3F-A59D-24BB48B9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BBA1AC-A85C-47B6-BFA6-36F3F3D5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AD83E7-DFA9-49C6-96E7-7F9A418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28EEE4-C88B-4AEE-ACC1-9E53007A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071CEE-B3A1-41F5-9846-2787A75E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C412-23D5-4BE0-A62C-FDDD1E1632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4CC787-5C39-4C87-8938-0C86AA33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4F0779-26E6-4B98-B089-55449FB2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4A9B30-7015-4D03-9835-FB3E5C99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597E78-AF6C-4028-ADCE-70A857C7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B66A62-12BF-4D0E-9048-A34A1892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8159E4-5F5C-4DF2-8734-4C19DC24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4038DF-E36D-4B48-93B9-BB949A66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D93E28-0140-4614-8B83-F5D7602C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051E98-74D0-4407-9149-EACF9C6E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E29118-AC55-479C-A898-46555133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3B998-4810-4251-BD4A-733A168F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A1B23F-FC1B-460F-939C-E6FE2093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36CB6C-F868-4A3D-8EC3-8873F27D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762C73-2442-4B50-8614-E9F0C3BF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5F7C78-D6E4-413B-ACBD-5099B4C1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F93AC4-6808-4918-8EAB-DA2A8696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78B0C5-31DD-4FC1-81DC-CEF115C5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1A8006-6A29-4241-9597-ADABB57F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92DCCC-B3B7-47F7-881D-49501EA3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FB669E-24FB-46E4-A602-A0AB4446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62E4F2-E8D0-455D-923D-BA3BB106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E651B-F3AE-4400-B29F-AB99B8D9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41E817-05D2-4BCF-8E12-120ABD98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711180-F040-4A6D-849D-8A97EBE6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710B8A-BC27-42FA-A168-AA9CCCF2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F526D0-2047-412E-902A-C366A3E5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9AC5CF-3883-4E8F-BF1B-B8E96F81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9A48E-3460-4550-A1FA-FAEB3F79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CB186-C27E-40D4-B183-34A59122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CBC4A-8BC9-484A-B544-C17D5A1F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E4129-86A5-4FE8-8550-DEB565C5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86A42-8478-4E85-A612-E7102220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2C9A-643A-4598-8548-08A36E3E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CD08C-43BB-41DD-A069-4CB1CFA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F1828-23C8-452E-AC4B-51E05D27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D9284-51D8-45DC-863A-80AA46A1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B72D1-3833-472D-960A-327D9CAE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E651A-CF4F-455F-A034-DD19A6A0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29CAE-44D1-4E3E-9426-E677772E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5F086-E3D6-4A30-B162-61552511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DD532-F136-4AC9-81FB-0EAEDA2D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23D78-810B-477E-ABDB-2B4B9A52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0BC6B-8276-4CB4-8A12-BA461F83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7469-8C01-4FFD-A478-CFA1A056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1CD2A-62A1-447F-BBB9-9A0DDDC8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70EEA-6828-49BD-ACAF-88A34F4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F11B7-865C-4876-A110-54741131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06013-F69F-450C-82D4-C3777B62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E3692-CAD3-4802-A110-94D1978C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6EE44-5718-429C-9EE1-748FA7C5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871F9-54DC-4CA7-A03E-730EC534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ACAD6-5260-4C5A-907A-AEFAA6CD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AFABA1-C117-405D-913A-22318788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10716-0DE6-49F2-93CF-F211135F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662F-EF79-467E-B431-F49614BB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F2A54-AE13-45FC-A43F-82231C77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F2A1B-C5A0-4929-A340-F1204E09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671CA-CE15-4A3C-B905-18C7953F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296A29-34EE-4620-A593-AC0F0A3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2700E9-650A-43D9-B8B0-EDF38E8C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25FE2E-172C-477C-8FC1-E6AB8C2B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4F2B9B-DDD7-4D86-99B5-20CB4E7D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15C7A-7BEE-4256-83A2-2CD7625B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835A3-8886-424A-9F83-233DF8D8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7AF8A-E194-4CFA-AC48-81B66F93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74B5-F518-4F09-A7A6-B8349052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3CD41-79B0-464D-9D02-B57B552B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8DF6D-4BEB-4486-AC1C-15475B66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3824E-1260-4E61-BEE0-7A6FCBF3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55858-E101-4E16-9ACB-2262114E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1CCC6-CE6E-436A-9E1E-BC2BD5E0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41AE5-ABE2-4D96-BBA8-8B31736B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EDF22-5EFB-4591-9C90-AC936D06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7DB5E-AA1E-4406-9BD8-143475F4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AD930-1E5E-47A8-914D-BFD6E737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0AA1E-CFE2-4F05-97E2-2733C802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B8F9-51A8-4438-AEF4-6A1535E2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4CE5B-D6FC-4E6D-8472-0E148A3B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277B7-9832-4DD7-A480-1F885849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DFF9C-4A55-4D7B-A5AA-1F0F8DEA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0974B-921B-4178-9F22-67A105E0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08C32-2884-46CB-BAE1-AB5D2C0B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E4A2A-70D8-47DF-B1E7-E2B0E2F2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94CDA-5891-47C4-8DDF-0947BFBB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5A2A4-0354-42DE-93D3-8AEFF890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478A5-DF5B-4818-AD90-9E5D382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72958-1DCB-4B8E-B608-EBA33613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8E97-7EA0-466A-A54B-122A3600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EF697-E08F-4CF2-9691-226E14F1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16339-8209-48AB-A4C4-D2B01960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A191B-9696-4FF3-A0D5-823A14BE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CF722-39B3-4066-BAA0-8C787924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5466DF-9008-4738-9387-AE355396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3978D-93AD-4DD0-AFE1-C2E0DF4C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80A15-DD93-41D6-8D04-8A0DE8DD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AC6B4-3B49-4B38-9FAD-6AE51C13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605C3-8BDE-4B4B-BAD7-56C65855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551FC-723C-45B6-956A-160ABD04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E1FC-F731-4D4D-861A-954A965B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D8BE8-42D4-49AE-AE9E-0101AF67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47D1A-583E-4F7A-A0E4-6D695F97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FF835-DAA1-40F4-B24E-E24832C1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F62DB-C3BA-410D-8E2E-11814622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899D2-3E81-45EA-A34F-94093A67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A917CA-CA37-4109-99D7-60BEF5B4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9053EF-3420-48D9-A0F1-0DFA97B0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8A9CB2-1B6D-4C6B-A686-28B683C5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74B097-0125-42E9-B215-B4F68FD8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6C2C15-22B2-443A-B23D-D845EEFC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3AF0-3B59-4BAD-B9E0-ABBF9C71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01A7D7-AA5A-4D19-8045-4FE5FE19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604579-89D7-4FBF-AAE6-C7B6CEC1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FF92CB-D436-456C-9E6A-01D1422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9E8B18-AAD1-474E-92EC-563AC40E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E8B9B-76BC-411B-B8F8-5FF3C26C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F853D1-B873-405A-BF6D-9FF3602C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EBEB6F-628B-49BB-B588-76E7D625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25BEE5-5343-4737-9AB3-1ACC6BF0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B0A9AA-1510-44A0-ACCC-EB5E1C83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659AC8-C371-4A03-887F-77E11AD2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69E0-417A-4CCF-A266-CC5645AD045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EABA-1FCC-44FD-A4A8-BA15BC4F88F0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331F-A8C8-4A1F-904F-E3D8F4CDD397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9E75-7589-49A0-89FC-2CA23AD5560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C96A-781D-4047-A76D-0C74319FF8AE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353D-28E0-4090-B41D-AE3AF298B1F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169A-BC2F-4C40-9994-77333DDDFB77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4B5D-A888-4A4A-8B48-5EA97D6FE9E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F380-C708-4E64-B304-89BBD08739E3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3620-894D-49C8-8596-DD375800E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B8A1-788A-47CB-9359-906E7C74A83F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1741-841E-4983-A723-8A778BB385B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E956-5963-4CFD-BC3C-1375DFB55488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37E3-EE87-4272-AEEC-BABA2ABF5D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3BA9-9D00-45F8-B389-6926CA9E3D04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D77F-78F0-482F-AE3C-8B11B138AAD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F65E-021D-4EC0-8D6C-A72FA950B26D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239B-211A-4696-BA41-A89A8DF0472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1C0F-388F-4F28-87A7-40D70AA7AD89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0ACA-C540-4696-ACB0-A72812E8D6A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51E2-04B1-462A-B38A-D4FAA35B687F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BA3E-C48E-428B-BA57-3BCEE086227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059E-02DA-4440-8B8C-7D2BEEE6237A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jeudi 30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CB5E-3571-40B2-BCFB-2DFB74E7E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randdictionnaire.com/btml/fra/r_motclef/index1024_1.asp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bliotheques.uqam.ca/plagiat" TargetMode="External"/><Relationship Id="rId2" Type="http://schemas.openxmlformats.org/officeDocument/2006/relationships/hyperlink" Target="http://passeurdesciences.blog.lemonde.fr/2012/01/26/le-plagiat-un-mal-qui-frappe-aussi-la-science/" TargetMode="External"/><Relationship Id="rId3" Type="http://schemas.openxmlformats.org/officeDocument/2006/relationships/hyperlink" Target="http://archeologie-copier-coller.com/?p=65" TargetMode="External"/><Relationship Id="rId4" Type="http://schemas.openxmlformats.org/officeDocument/2006/relationships/hyperlink" Target="http://archeologie-copier-coller.com/?p=65" TargetMode="External"/><Relationship Id="rId5" Type="http://schemas.openxmlformats.org/officeDocument/2006/relationships/hyperlink" Target="http://archeologie-copier-coller.com/?p=65" TargetMode="External"/><Relationship Id="rId6" Type="http://schemas.openxmlformats.org/officeDocument/2006/relationships/hyperlink" Target="http://archeologie-copier-coller.com/?p=2499" TargetMode="External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4920" y="178128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a50021"/>
                </a:solidFill>
                <a:latin typeface="Arial"/>
              </a:rPr>
              <a:t>Qu’est ce que le plagiat ?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34920" y="4086360"/>
            <a:ext cx="896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Palatino Linotype"/>
              </a:rPr>
              <a:t>Document préparé p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Palatino Linotype"/>
              </a:rPr>
              <a:t>Frédéric Isel et Yves Goubat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Université Paris Descar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Espace réservé du pied de page 7"/>
          <p:cNvSpPr/>
          <p:nvPr/>
        </p:nvSpPr>
        <p:spPr>
          <a:xfrm>
            <a:off x="360360" y="6381720"/>
            <a:ext cx="1018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© Université Paris Nanterre – UFR PHILLIA - Département de sciences du lang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Image 8" descr="UPL_logo.png"/>
          <p:cNvPicPr/>
          <p:nvPr/>
        </p:nvPicPr>
        <p:blipFill>
          <a:blip r:embed="rId1"/>
          <a:stretch/>
        </p:blipFill>
        <p:spPr>
          <a:xfrm>
            <a:off x="4519440" y="189000"/>
            <a:ext cx="2068560" cy="1079280"/>
          </a:xfrm>
          <a:prstGeom prst="rect">
            <a:avLst/>
          </a:prstGeom>
          <a:ln w="0">
            <a:noFill/>
          </a:ln>
        </p:spPr>
      </p:pic>
      <p:pic>
        <p:nvPicPr>
          <p:cNvPr id="502" name="Image 6" descr=""/>
          <p:cNvPicPr/>
          <p:nvPr/>
        </p:nvPicPr>
        <p:blipFill>
          <a:blip r:embed="rId2"/>
          <a:stretch/>
        </p:blipFill>
        <p:spPr>
          <a:xfrm>
            <a:off x="324000" y="152280"/>
            <a:ext cx="3690720" cy="11160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1" descr=""/>
          <p:cNvPicPr/>
          <p:nvPr/>
        </p:nvPicPr>
        <p:blipFill>
          <a:blip r:embed="rId3"/>
          <a:stretch/>
        </p:blipFill>
        <p:spPr>
          <a:xfrm>
            <a:off x="6877080" y="160200"/>
            <a:ext cx="18651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Informer, Sensibiliser, Prévenir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1916280"/>
            <a:ext cx="91440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 plagiat : informer, sensibiliser et préven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   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z sur le plagiat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AB21-D69D-41E2-BAEF-0CAA9EC8C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Références bibliographiques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45BF-A2C8-4E3F-9B56-064376E3D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oneTexte 5"/>
          <p:cNvSpPr/>
          <p:nvPr/>
        </p:nvSpPr>
        <p:spPr>
          <a:xfrm>
            <a:off x="179280" y="1324080"/>
            <a:ext cx="89647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 (2009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es clics et des droits : le droit appliqué à l’imag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, &amp; Association française des documentalistes et des bibliothécaires spécialisés. (2012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Quels droits pour copier aujourd’hui ? : copier et diffuser une œuvre dans l’environnement numériqu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 En ligne : </a:t>
            </a:r>
            <a:br>
              <a:rPr sz="2000"/>
            </a:br>
            <a:r>
              <a:rPr b="0" lang="fr-FR" sz="1600" spc="-1" strike="noStrike">
                <a:solidFill>
                  <a:srgbClr val="000000"/>
                </a:solidFill>
                <a:latin typeface="Ebrima"/>
              </a:rPr>
              <a:t>https://frodon.univ-paris5.fr/http/parisdescartes.immateriel.fr/fr/ebook/97828436513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aurel-Indart, H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u plagiat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Gallim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oreau, É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Les droits d’auteur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Transvalor-Presses des M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Stérin, A.-L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Guide pratique du droit d’auteur : utiliser en toute légalité textes, photos, films, musiques, Internet. 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Paris : Maxima-Laurent Du Mesnil é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504720" y="115920"/>
            <a:ext cx="896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50021"/>
                </a:solidFill>
                <a:latin typeface="Arial"/>
                <a:ea typeface="Arial"/>
              </a:rPr>
              <a:t>Le plagiat :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95280" y="148428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lusieurs définitions et plusieurs formes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95280" y="2997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Définition du grand dictionnaire terminologique 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 Utilisation des écrits d'autrui sans mention d'emprunt » 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(</a:t>
            </a:r>
            <a:r>
              <a:rPr b="0" lang="fr-FR" sz="26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Office de la langue française, 1990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0F6B-8E94-4A49-A5FD-29704BAFD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us généralement, « le 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plagia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consiste à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141300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s’attribuer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 les propos, les productions ou les idées d’autrui, sans citer la source ou l’auteur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0" y="256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s’approprier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contenus disponibles sur Internet, en format texte, audio, vidéo, image ou autre sans citer la source ou en paraphrasant de manière inadéqua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-1440" y="4292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agir de manière à contourner les règl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noncées lors des travaux d’évaluation.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4932-B58E-43F0-B1EA-963853A60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a50021"/>
                </a:solidFill>
                <a:latin typeface="Arial"/>
              </a:rPr>
              <a:t>Pratiques associées au copier-coller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0" y="105264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Copier</a:t>
            </a:r>
            <a:r>
              <a:rPr b="0" lang="en-GB" sz="28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le travail d’un étudiant 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ayant suivi le cours lors d’une session précéden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2133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aliser un travail en mode copier-coll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partir de plusieurs sources non citées ou non contextualisée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-1440" y="3141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hanger uniquement quelques mot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copier le texte intégralement (plagiat délibéré ou paraphraser de manière inadéquate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6360" y="4581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iter en omettan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guillemet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36360" y="5157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sumer sans attribu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idée à l’aut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A9B4-5D5E-4BAE-BB64-A0CC41666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oneTexte 14"/>
          <p:cNvSpPr/>
          <p:nvPr/>
        </p:nvSpPr>
        <p:spPr>
          <a:xfrm>
            <a:off x="179280" y="5837400"/>
            <a:ext cx="8785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http://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920" y="115920"/>
            <a:ext cx="93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Ebrima"/>
              </a:rPr>
              <a:t>Plusieurs facteurs peuvent amener un.e étudiant.e à plagier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ne sait pas comment faire le travail demandé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-1440" y="1486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de la difficulté à s’organiser et à gérer son temp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-36360" y="2131920"/>
            <a:ext cx="943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manque d’expérience en matière de bonnes pratique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36360" y="2781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contourner les exigences ; il/elle pense que l’enseignant ne s’en rendra pas compt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34920" y="3789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ise uniquement à obtenir la note de passag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6360" y="4365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défier l’autorité ou perçoit qu’il y a peu de conséquences au plagiat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6360" y="5373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peu d’intérêt pour le cours ou pour le champ d’étu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33B5-1B4D-42F0-B462-3FBC18381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ZoneTexte 11"/>
          <p:cNvSpPr/>
          <p:nvPr/>
        </p:nvSpPr>
        <p:spPr>
          <a:xfrm>
            <a:off x="179280" y="6275520"/>
            <a:ext cx="8785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</a:rPr>
              <a:t>http://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34920" y="-100080"/>
            <a:ext cx="504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 plagiat :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Il s’agit d’un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cte frauduleux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, lorsqu’il est découvert dans les travaux universitaires, est </a:t>
            </a:r>
            <a:r>
              <a:rPr b="1" lang="fr-FR" sz="2600" spc="-1" strike="noStrike">
                <a:solidFill>
                  <a:srgbClr val="a50021"/>
                </a:solidFill>
                <a:latin typeface="Ebrima"/>
              </a:rPr>
              <a:t>sanctionné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240" y="3068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ogiciel d’aide à la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détection de plagiat (Compilatio.net)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vérification des contenus numériques (étudiants/enseignant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0" y="429264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ttention : ce n’est pas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arce qu’un document ou une information est librement accessible sur internet qu’elle peut être utilisée sans en mentionner l’auteur et l’origin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0" y="5805360"/>
            <a:ext cx="9144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Toute utilisation d’un texte d’autrui </a:t>
            </a:r>
            <a:r>
              <a:rPr b="1" lang="en-GB" sz="2600" spc="-1" strike="noStrike">
                <a:solidFill>
                  <a:srgbClr val="a50021"/>
                </a:solidFill>
                <a:latin typeface="Ebrima"/>
              </a:rPr>
              <a:t>doit respecter </a:t>
            </a:r>
            <a:r>
              <a:rPr b="0" lang="en-GB" sz="2600" spc="-1" strike="noStrike">
                <a:solidFill>
                  <a:srgbClr val="a50021"/>
                </a:solidFill>
                <a:latin typeface="Ebrima"/>
              </a:rPr>
              <a:t>les règles de ci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E225-2D16-4FF7-89FF-4010B5D89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21337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s étudiants convaincus de plagiat peuvent être traduits devant la </a:t>
            </a:r>
            <a:r>
              <a:rPr b="0" lang="fr-FR" sz="2600" spc="-1" strike="noStrike">
                <a:solidFill>
                  <a:srgbClr val="c00000"/>
                </a:solidFill>
                <a:latin typeface="Ebrima"/>
              </a:rPr>
              <a:t>section disciplinaire de l'Université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4920" y="-162000"/>
            <a:ext cx="1130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Sanctions disciplinaires applicables 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En fonction de la gravité des faits, les sanctions disciplinaires applicables aux usagers sont les suivantes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DBA8-397A-46F3-B6CF-FA088E136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270972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’avertissement, le blâme, l’exclusion temporaire pour une durée maximale de cinq ans ou l’exclusion définitive de l’université ou de tout établissement public d’enseignement supérieur, avec ou sans sursis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79280" y="115920"/>
            <a:ext cx="8569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ctures web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ZoneTexte 3"/>
          <p:cNvSpPr/>
          <p:nvPr/>
        </p:nvSpPr>
        <p:spPr>
          <a:xfrm>
            <a:off x="250920" y="1557360"/>
            <a:ext cx="8497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Le plagiat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Service des bibliothèques de l'Université du Québec à Montré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2"/>
              </a:rPr>
              <a:t>Le plagiat, un mal qui frappe aussi la science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Passeur de sciences »,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3"/>
              </a:rPr>
              <a:t>« Février 2006 : bilan de l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4"/>
              </a:rPr>
              <a:t>’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5"/>
              </a:rPr>
              <a:t>analyse de 30 mémoires de DEA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0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6"/>
              </a:rPr>
              <a:t>Les bibliothécaires face aux thèses plagiats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A6B9-B5CB-4865-A2AE-7CAB5BE46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50920" y="442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Tutoriels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0" y="1413000"/>
            <a:ext cx="91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Comment éviter le plagiat ?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 Comment citer dans le texte ?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EE12-C224-4BB1-A6E0-979C9B15C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8:53:43Z</dcterms:created>
  <dc:creator>François</dc:creator>
  <dc:description/>
  <dc:language>en-US</dc:language>
  <cp:lastModifiedBy>lacheret</cp:lastModifiedBy>
  <dcterms:modified xsi:type="dcterms:W3CDTF">2018-09-21T12:42:16Z</dcterms:modified>
  <cp:revision>96</cp:revision>
  <dc:subject/>
  <dc:title>Slide 1</dc:title>
</cp:coreProperties>
</file>