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A95B-ED22-4833-AFB9-EB644688FD5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AE3D-A915-49EE-8F95-A1901973E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A7C2-F575-4EB6-BD3C-D8E571D90F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878E-2390-4A2D-9C33-25BD166669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7C57-B516-4932-9554-5BEADC8A60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85FE-6D1E-46E8-BE6F-D36889AAC1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AE2C-BF28-41DF-BEE2-0765742A7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E50E-7ABB-45C7-92C2-3E7581D5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BBDD37-4524-4CE2-8880-3DB4B66B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73D28B-254C-4A3E-8554-EEACB950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1600A3-156B-40D3-8C23-33C616BD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35EE64-ADE6-4494-8616-CC1D945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253F41-8ED7-4255-83BD-F1BDBFE6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42E9EF-9F34-48C8-9AD9-90F042E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764087-4BD6-47F6-90F9-D3E72B4F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68565B-2D6A-4EB5-8994-1C483FC9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3EA30F-C890-47D0-9FE4-A804933C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A00608-6F22-43B6-8890-C6E131AB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2045-BE42-464C-B626-15AB996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0D57A4-512C-4E03-A884-E7B9B6CD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22DFB4-B0C8-4054-BFAB-920CFB57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30E9AF-16D9-446A-B2BB-AC74B9B9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06B1DA-D705-4ACD-B874-45EECB05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25B60F-9334-4F73-8F69-29F189DA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00F1AA-91EF-4C00-AC76-756814E8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9202E6-D081-4C52-B5E7-8CA1AD59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B2075A-A681-43A4-9BF0-4C1187D1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65A4F4-9A4A-488A-8329-A77E0E85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754957-95F3-46E0-8DD7-7FF05AC1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30CA-EE42-40F9-BDF5-774FAA3E8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A8EC2A-2095-4B49-9DAA-75854041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B263F5-E49C-4FCD-996F-4E137DA2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3351B1-B11B-466A-B649-8885EFCA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7DF31C-7CEE-4897-BB62-03FB3616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149FF7-59BB-44A8-A9B3-E6EEA8A0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BE35B6-AC44-47CB-ABDB-7FCB12EC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022F01-6CF1-48DA-8FF1-252D50FF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C0753C-A31E-4790-9D14-63499A1E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422439-2917-4030-A873-5E7D916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32FAA4-07FE-4D54-BCCE-74ECA926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826CA-CFC3-4DCD-AB1B-F2A24DC9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F459DC-35E0-45D7-B018-DEE2C11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6AD083-B324-4C8B-9BB8-28A72325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CF8C47-9308-4C82-A2FA-154CF856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A90907-138A-4A1C-B78C-617F2ACF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298E49-B69F-40B0-AF13-A947DCB2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C0429D-7B91-408F-B066-1868B225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17171E-1991-4799-B89E-825EE41D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1548DA-FB9E-4AB2-91E5-588D32FE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D4D4B3-9BBA-4372-A103-19F6F7FB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316B1C-C8A9-46B5-9F65-9F5EE10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A11EF-B34B-4993-B9B0-EE361AD4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B1E1CB-F7DA-43F7-8788-583745EE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EC9B08-5FEE-4693-A0B0-5CEC5A7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F58F95-3E62-4A37-A2D2-81C74124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BD6AE4-CC02-4C95-A9F0-171A8301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6D0826-2AFF-491A-8DE1-236F9304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27A21-5DAA-46FA-A92B-FBF17CB0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9BD2C-7848-4BB5-8CE1-641673EC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929A9-1A35-458F-9613-4424FF7B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4412F-4025-4276-8977-0D7B88F0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A8946-EB10-4DCC-8D09-A93FAEED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5D35-0A5E-4E63-A4ED-41580224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8B370-A40F-4C41-BDA0-50267169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C6C03-0819-4E66-814A-814DFB7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A4475-7EE8-4851-A0B2-F779D2F9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4E8DA-1A93-413D-B61C-89B1B608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5BB6A-221D-40DE-A167-BD880D95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C7520-2691-448B-946E-38A7057F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3B3A9-9BBD-4F55-8698-D715A802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93FD0-C77E-41D5-BDBA-FEB74C65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2D4F9-6D1D-4ECE-9715-FAE26CAD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F0C56-E707-4044-8D61-F146591D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7774-BC83-4A62-88AE-9568A0B2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4E1FF-B2E6-45B0-BEA8-D51F1DC3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5857D-1C2B-4BFB-B773-6204BFA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629EB-0A67-4AED-82F6-3E44139C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30A7C-FC34-483D-8874-82EE8B4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DC7C1-C51D-42E4-AE40-49FA9685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6BEAE-FFAB-400D-91FB-D88B80CE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35E88-EA6F-4C17-ACDE-8DAE56A8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148FC-C5CE-4C9B-9643-30438F4F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7FD2B-2ACE-402F-B5E3-9FBD046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C7D73-D171-46F9-841F-1CAE4EB0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7751-42B6-44BB-9A46-CBDEF3D1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03AFF-1A2D-4BBD-8076-9AEB6CD9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906FA-D5B9-44CF-B1A6-C3232528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4F288-640B-47C5-A4BB-60FFEBA8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3BE41-0D09-4BE3-8024-BC719D36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8EB8F-A275-4EA1-A31B-018F491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02682-B5AA-4167-B98C-48FA4E2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1CC11-DAFD-4ABE-8747-87D405C1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C04C3-192E-417A-9A29-3C674380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1A922-72A1-49A6-9F2F-600F9840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50DE2-1411-495D-8CC6-618ACFA1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F85C-F6BC-4835-86D3-ACA8E436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69764-3FA0-4205-8468-DFCD2AF4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BCC68-540B-47F4-8AFF-DA0971D0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52980-5D46-4C63-B1A0-54679DA9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1F471-E5A2-446C-B442-4DFC0E45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0F69F-FF1E-4DDB-8407-2466BE29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CBC76-9D9C-49F2-BEA3-1C629C07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D058D-4128-4A21-AEC1-BAA2146C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B1816-1835-47EC-9EE5-04E4EB71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27906-C111-467F-9F0A-03F7CC1A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8D5CA-21E8-4989-9848-BC4045C3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CFEE-9CA9-46B5-8987-536F939C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471A5-6B6D-4588-9B94-205971BE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EADFD-3E5D-4C83-AC2B-28D04577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58A45-60E6-46EA-903E-67B0B998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4C216-C591-4530-AA2D-08DE3B80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5573A-ABED-4A77-8BD5-1D3A727B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5F898-B0B2-47B0-92A5-93395A9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C33C8-F5D6-4834-B75D-A14AF15B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5B889-3919-4D4A-A47E-F35226F8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E787C-4449-4B9D-8913-39890346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582DA-E33E-47B0-BF33-075CBE59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BD54-9C32-4A04-81BB-0EA0D798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A5E10-1CD8-4DB7-A2FA-048D7CE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B216F-08F7-4112-90F0-5104D433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05CDF-A937-4F2F-8FFF-D87E7A43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A5133-99E9-4E4B-AE95-9D023B9B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40B14-199A-4066-8B26-7489D370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158B7-4144-4589-970A-A6E932F6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76081-4E63-44D0-B6C2-F2EBEC0A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EF618-A123-4268-ACA6-A4456DFA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E8E5B-3B00-4F48-883F-0B446D90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EC3A9-C8DD-4777-B02B-DFC27C35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9090-2AAA-49B7-BBBC-468DAF19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C9BF1-3489-48F7-8B14-9754D279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9CCBE-AB26-42B6-A5F5-58F082E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A2D692-230D-4B31-ABF1-8E9F0204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5AA1A-D3E7-45F9-886B-CA78E9E0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CE2A6-7407-4095-86BC-041C3026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F7FA3-CEFB-4F04-B01D-FB72F9C0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C060DE-9BD8-4EA0-92F5-11A612C2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339E00-97C1-4CC8-8CE9-0D9F1EA7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646E61-E438-4733-8F28-490F0BE4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4C0035-FD7B-4BAD-91E9-65EF242B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E700-FF4E-4244-9AF4-2DDB0998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04A615-9E7B-4E91-8C51-2B56FE23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6C838-48A6-4D1D-846A-AF206E62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A48D2E-4F70-4C72-8B52-67495E74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AA7C3-B40A-4AB7-A876-C3CC05C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8CEC75-A562-476A-80A4-BC62B946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038DD-C622-461D-8C94-2610FFAD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929DFD-DE6D-48D4-BFFE-16E8321B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ACF381-2A22-49FE-9DD2-79DAB5CF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0D288-29D5-41AD-AEBD-BF73DF08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758717-D0C8-4BD2-A301-29192467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8821-4756-48E4-8114-7ED4071A810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E47A-6D52-4728-AA90-4274C86F71B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E126-00AC-4F7D-A290-F0E198A602DF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2450-4240-4F72-B745-55820BF2F15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BE8D-6DA8-4C92-954E-A015CC249601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1F17-8D63-4E65-AC51-4B6AEB116A5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A23B-1FCD-4A33-9216-30FC0805F955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2917-A468-47FB-8468-85B39765597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DEF9-AAAC-41E4-869C-414E17811D9F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B6F7-D678-4393-BB9F-F18ED8C38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0355-EFF5-4FC6-8D34-FCE75A13689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C585-F242-4DC2-A6E3-2BE06DED3E6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34BC-5E45-4891-BD90-958E4DED6E0B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BDE1-FAC4-4947-8264-C884426048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6EA-C9E0-4855-ACE1-C7AA55FD1277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F983-DC77-40A9-A1B3-6A00E470006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FA2C-435E-4AFC-A281-90285AFB4FF0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4C50-F431-4DE9-BB3D-4479114CE3E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98FB-C331-4B73-ABE3-1343DAC240C6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D304-409E-4862-A077-19277AFA633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9029-A9F0-4A69-AD32-E7B326E7BCC8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C5C8-615E-455D-85B5-3DD82842068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CDE1-7762-444C-9AFE-8885C6342A56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ercredi 29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BB5-E68D-44F9-A8E3-560DAFAE1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nddictionnaire.com/btml/fra/r_motclef/index1024_1.as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heques.uqam.ca/plagiat" TargetMode="External"/><Relationship Id="rId2" Type="http://schemas.openxmlformats.org/officeDocument/2006/relationships/hyperlink" Target="http://passeurdesciences.blog.lemonde.fr/2012/01/26/le-plagiat-un-mal-qui-frappe-aussi-la-science/" TargetMode="External"/><Relationship Id="rId3" Type="http://schemas.openxmlformats.org/officeDocument/2006/relationships/hyperlink" Target="http://archeologie-copier-coller.com/?p=65" TargetMode="External"/><Relationship Id="rId4" Type="http://schemas.openxmlformats.org/officeDocument/2006/relationships/hyperlink" Target="http://archeologie-copier-coller.com/?p=65" TargetMode="External"/><Relationship Id="rId5" Type="http://schemas.openxmlformats.org/officeDocument/2006/relationships/hyperlink" Target="http://archeologie-copier-coller.com/?p=65" TargetMode="External"/><Relationship Id="rId6" Type="http://schemas.openxmlformats.org/officeDocument/2006/relationships/hyperlink" Target="http://archeologie-copier-coller.com/?p=2499" TargetMode="External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4920" y="1781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a50021"/>
                </a:solidFill>
                <a:latin typeface="Arial"/>
              </a:rPr>
              <a:t>Qu’est ce que le plagiat ?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34920" y="4086360"/>
            <a:ext cx="896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Palatino Linotype"/>
              </a:rPr>
              <a:t>Document préparé p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Palatino Linotype"/>
              </a:rPr>
              <a:t>Frédéric Isel et Yves Goubat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Université Paris Descar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Espace réservé du pied de page 7"/>
          <p:cNvSpPr/>
          <p:nvPr/>
        </p:nvSpPr>
        <p:spPr>
          <a:xfrm>
            <a:off x="360360" y="6381720"/>
            <a:ext cx="1018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© Université Paris Nanterre – UFR PHILLIA - Département de sciences du lang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 8" descr="UPL_logo.png"/>
          <p:cNvPicPr/>
          <p:nvPr/>
        </p:nvPicPr>
        <p:blipFill>
          <a:blip r:embed="rId1"/>
          <a:stretch/>
        </p:blipFill>
        <p:spPr>
          <a:xfrm>
            <a:off x="4519440" y="189000"/>
            <a:ext cx="2068560" cy="1079280"/>
          </a:xfrm>
          <a:prstGeom prst="rect">
            <a:avLst/>
          </a:prstGeom>
          <a:ln w="0">
            <a:noFill/>
          </a:ln>
        </p:spPr>
      </p:pic>
      <p:pic>
        <p:nvPicPr>
          <p:cNvPr id="502" name="Image 6" descr=""/>
          <p:cNvPicPr/>
          <p:nvPr/>
        </p:nvPicPr>
        <p:blipFill>
          <a:blip r:embed="rId2"/>
          <a:stretch/>
        </p:blipFill>
        <p:spPr>
          <a:xfrm>
            <a:off x="324000" y="152280"/>
            <a:ext cx="3690720" cy="11160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1" descr=""/>
          <p:cNvPicPr/>
          <p:nvPr/>
        </p:nvPicPr>
        <p:blipFill>
          <a:blip r:embed="rId3"/>
          <a:stretch/>
        </p:blipFill>
        <p:spPr>
          <a:xfrm>
            <a:off x="6877080" y="160200"/>
            <a:ext cx="1865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Informer, Sensibiliser, Prévenir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1916280"/>
            <a:ext cx="9144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 plagiat : informer, sensibiliser et préven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   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z sur le plagiat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BD8D-466B-4694-B3F9-F46A8939D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Références bibliographiques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9E82-E2A8-4C33-A24C-11B26FD34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oneTexte 5"/>
          <p:cNvSpPr/>
          <p:nvPr/>
        </p:nvSpPr>
        <p:spPr>
          <a:xfrm>
            <a:off x="179280" y="1324080"/>
            <a:ext cx="8964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 (2009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es clics et des droits : le droit appliqué à l’imag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, &amp; Association française des documentalistes et des bibliothécaires spécialisés. (2012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Quels droits pour copier aujourd’hui ? : copier et diffuser une œuvre dans l’environnement numériqu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 En ligne : 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Ebrima"/>
              </a:rPr>
              <a:t>https://frodon.univ-paris5.fr/http/parisdescartes.immateriel.fr/fr/ebook/97828436513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aurel-Indart, H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u plagiat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Gallim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oreau, É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Les droits d’auteur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Transvalor-Presses des M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Stérin, A.-L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Guide pratique du droit d’auteur : utiliser en toute légalité textes, photos, films, musiques, Internet. 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Paris : Maxima-Laurent Du Mesnil é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504720" y="115920"/>
            <a:ext cx="896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50021"/>
                </a:solidFill>
                <a:latin typeface="Arial"/>
                <a:ea typeface="Arial"/>
              </a:rPr>
              <a:t>Le plagiat :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95280" y="148428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lusieurs définitions et plusieurs forme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95280" y="2997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Définition du grand dictionnaire terminologique 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 Utilisation des écrits d'autrui sans mention d'emprunt » 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(</a:t>
            </a:r>
            <a:r>
              <a:rPr b="0" lang="fr-FR" sz="26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Office de la langue française, 1990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3196-9A46-4253-9BCF-5844B9943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us généralement, « le 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plagia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consiste à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141300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s’attribuer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 les propos, les productions ou les idées d’autrui, sans citer la source ou l’aut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0" y="256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s’approprier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contenus disponibles sur Internet, en format texte, audio, vidéo, image ou autre sans citer la source ou en paraphrasant de manière inadéqua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-144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agir de manière à contourner les règl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noncées lors des travaux d’évaluation.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FEA8-6202-48F4-A33A-7F33BE878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a50021"/>
                </a:solidFill>
                <a:latin typeface="Arial"/>
              </a:rPr>
              <a:t>Pratiques associées au copier-coller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1052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Copier</a:t>
            </a:r>
            <a:r>
              <a:rPr b="0" lang="en-GB" sz="28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le travail d’un étudiant 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ayant suivi le cours lors d’une session précéden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2133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aliser un travail en mode copier-coll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partir de plusieurs sources non citées ou non contextualisée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-1440" y="3141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hanger uniquement quelques mot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copier le texte intégralement (plagiat délibéré ou paraphraser de manière inadéquate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6360" y="4581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iter en omettan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guilleme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6360" y="5157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sumer sans attribu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idée à l’aut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2535-DF76-4DF9-9B70-725A4C2E7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oneTexte 14"/>
          <p:cNvSpPr/>
          <p:nvPr/>
        </p:nvSpPr>
        <p:spPr>
          <a:xfrm>
            <a:off x="179280" y="5837400"/>
            <a:ext cx="8785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http://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920" y="115920"/>
            <a:ext cx="93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Ebrima"/>
              </a:rPr>
              <a:t>Plusieurs facteurs peuvent amener un.e étudiant.e à plagie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ne sait pas comment faire le travail demandé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-1440" y="1486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de la difficulté à s’organiser et à gérer son temp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-36360" y="2131920"/>
            <a:ext cx="943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manque d’expérience en matière de bonnes pratique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6360" y="2781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contourner les exigences ; il/elle pense que l’enseignant ne s’en rendra pas compt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492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ise uniquement à obtenir la note de passag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6360" y="4365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défier l’autorité ou perçoit qu’il y a peu de conséquences au plagiat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6360" y="5373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peu d’intérêt pour le cours ou pour le champ d’étu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5BAE-534A-4DB3-8B25-E7AA71CD5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ZoneTexte 11"/>
          <p:cNvSpPr/>
          <p:nvPr/>
        </p:nvSpPr>
        <p:spPr>
          <a:xfrm>
            <a:off x="179280" y="6275520"/>
            <a:ext cx="8785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</a:rPr>
              <a:t>http://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34920" y="-100080"/>
            <a:ext cx="504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 plagiat :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Il s’agit d’un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cte frauduleux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, lorsqu’il est découvert dans les travaux universitaires, est </a:t>
            </a:r>
            <a:r>
              <a:rPr b="1" lang="fr-FR" sz="2600" spc="-1" strike="noStrike">
                <a:solidFill>
                  <a:srgbClr val="a50021"/>
                </a:solidFill>
                <a:latin typeface="Ebrima"/>
              </a:rPr>
              <a:t>sanctionné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240" y="3068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ogiciel d’aide à la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détection de plagiat (Compilatio.net)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vérification des contenus numériques (étudiants/enseignant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429264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ttention : ce n’est pas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arce qu’un document ou une information est librement accessible sur internet qu’elle peut être utilisée sans en mentionner l’auteur et l’origin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805360"/>
            <a:ext cx="9144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Toute utilisation d’un texte d’autrui </a:t>
            </a:r>
            <a:r>
              <a:rPr b="1" lang="en-GB" sz="2600" spc="-1" strike="noStrike">
                <a:solidFill>
                  <a:srgbClr val="a50021"/>
                </a:solidFill>
                <a:latin typeface="Ebrima"/>
              </a:rPr>
              <a:t>doit respecter </a:t>
            </a:r>
            <a:r>
              <a:rPr b="0" lang="en-GB" sz="2600" spc="-1" strike="noStrike">
                <a:solidFill>
                  <a:srgbClr val="a50021"/>
                </a:solidFill>
                <a:latin typeface="Ebrima"/>
              </a:rPr>
              <a:t>les règles de ci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F16-9F87-4F36-8F72-E348CD9CE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21337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s étudiants convaincus de plagiat peuvent être traduits devant la </a:t>
            </a:r>
            <a:r>
              <a:rPr b="0" lang="fr-FR" sz="2600" spc="-1" strike="noStrike">
                <a:solidFill>
                  <a:srgbClr val="c00000"/>
                </a:solidFill>
                <a:latin typeface="Ebrima"/>
              </a:rPr>
              <a:t>section disciplinaire de l'Université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4920" y="-162000"/>
            <a:ext cx="1130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anctions disciplinaires applicables 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En fonction de la gravité des faits, les sanctions disciplinaires applicables aux usagers sont les suivantes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88F-05B9-4361-BFA6-AC3019DE4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270972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’avertissement, le blâme, l’exclusion temporaire pour une durée maximale de cinq ans ou l’exclusion définitive de l’université ou de tout établissement public d’enseignement supérieur, avec ou sans sursis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79280" y="115920"/>
            <a:ext cx="8569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ctures web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ZoneTexte 3"/>
          <p:cNvSpPr/>
          <p:nvPr/>
        </p:nvSpPr>
        <p:spPr>
          <a:xfrm>
            <a:off x="250920" y="1557360"/>
            <a:ext cx="8497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Le plagiat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Service des bibliothèques de l'Université du Québec à Montré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2"/>
              </a:rPr>
              <a:t>Le plagiat, un mal qui frappe aussi la science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Passeur de sciences »,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3"/>
              </a:rPr>
              <a:t>« Février 2006 : bilan de l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4"/>
              </a:rPr>
              <a:t>’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5"/>
              </a:rPr>
              <a:t>analyse de 30 mémoires de DEA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6"/>
              </a:rPr>
              <a:t>Les bibliothécaires face aux thèses plagiats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5654-4610-43D0-BE65-50032252C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50920" y="442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Tutoriels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0" y="141300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Comment éviter le plagiat ?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 Comment citer dans le texte ?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7725-E295-4D3E-855C-3B54C5541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53:43Z</dcterms:created>
  <dc:creator>François</dc:creator>
  <dc:description/>
  <dc:language>en-US</dc:language>
  <cp:lastModifiedBy>lacheret</cp:lastModifiedBy>
  <dcterms:modified xsi:type="dcterms:W3CDTF">2018-09-21T12:42:16Z</dcterms:modified>
  <cp:revision>96</cp:revision>
  <dc:subject/>
  <dc:title>Slide 1</dc:title>
</cp:coreProperties>
</file>