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99F5-AF16-4262-A779-2A72011E1A40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2A4E-AC29-46E6-8A8A-CCCEA307E0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E994-3C73-494B-BE65-D4160375B6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5991-D9C7-4006-84DC-D5294A0C41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3703-22E5-4613-A674-560D51368F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4392-4A12-4E79-B48C-CEBE40F8B2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54EF-0A51-4A03-B0AB-075AD9519C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A495-5BB4-4A70-B622-B8AF3142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F81243-5E24-4149-B323-CAE70F9A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AB3B00-6BC3-4C68-AD8E-51CE53B9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C09E9E-1440-4F3D-9E0A-FA498B2E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2BD98D-5F75-41DB-95AE-FF97FCBC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BDCC76-EECB-49A0-9E71-73088CED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474EB3-1EDC-4A85-9621-AA821AF3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F447A8-6FCA-4599-8147-CC40EFE1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B23C0E-F9D3-42F3-ABE3-C2CBAE3C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0F6466-A9F6-4793-9924-36D076C6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46D120-20C4-405E-9186-80AA21FD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33CD-BED6-462B-A48F-785A72B2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201061-908B-49E0-99BC-4E78AEB4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0461BC-237D-41F3-B4C1-636584A1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679962-A70A-4B9B-A045-67577FC7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8F4EFC-6C75-4B8F-869F-62C7ED5F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AD9BEF-75BA-4E50-B0A5-E3191954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76226C-9D79-4C8B-BCE9-A21F9076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6BD24A-772B-4671-B93D-A2254E49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CB4B38-F9CA-47E7-A53C-7DB00DD4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1E4F0D-DFC3-4CF8-9330-2B753FB6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12AE21-E8CB-41C5-8E3D-831ACEAE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8572-E0E1-433C-AC9E-496B792D6E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F00B89-8BEF-445C-8EE3-34E98BBF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B7D3E7-F59A-4F92-A2E9-50107F95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E3BC6C-6CDE-4190-A34E-68D8275F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74F905-6424-49F2-813F-17BBBAB1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7CCFA0-B50D-4B95-85BC-41437F45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5C6AB5-8706-4B1B-92FE-CFA38B04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AAB5A6-E7D8-4D87-9AA0-E1FA2C75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D7D2D8-A174-4669-A57A-EFA0719A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C5AB0D-F6E7-4935-964C-A74B79B5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14315C-5362-4706-9D21-289069D5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896FD-350D-4AAE-86B8-37E043B3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069D82-D2E4-41A1-B188-92F12C31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8D2224-0935-4618-B584-19A3A325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DB4A4E-F037-4B14-9153-1BCE8F2F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287F1C-665F-40A3-9B87-5B56B0E5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C89CED-6A5E-430D-B088-984A853B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CBDBE2-4881-4354-AA09-E73F77D6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E89FD7-A0B9-4EF7-8837-8428EF3B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631B5A-623B-4CBD-A23E-4BDA362F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6737D4-AEB3-4A64-A115-7D1F2E56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E921C9-67EA-4FD8-B930-ADA5B9CA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18F5C-2F39-4C8F-8D39-326370BB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09ADDA-1324-4C06-A607-BCFA7A72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B1937E-A485-4FAA-9A69-4F5838AC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B2DCCD-B4F1-4D96-9CA6-2A74ECAA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22F764-A0F2-4B3A-BB2B-16D31071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F2EC0A-0186-4431-A5FC-064AEDB1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25834-EE97-4EFA-8C87-E6F17DE8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DDBBD-1825-4F88-BB0A-FCA4F5F3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02D7C-E964-49BC-B12C-C66FE93E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E3E14-4895-4E25-8444-66BE9768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CF46C-D73C-45D3-B1D0-C9491E39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DB08-D615-40F2-ABE6-09339E31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2A15B-FCF4-4C0C-B1B6-843D726E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C92CE-758A-4485-8853-CBF622AA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55D58-60E6-43D3-8A75-20E7DCDB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FC01E-109A-41FF-AF0C-856FA1FB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8A0B4-CA79-419F-8BCA-1984881A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9C467-BD41-4CD0-A878-3C4AE9B9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24F16-7C59-418D-A40B-F11EAF39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8F58E-6AFB-4484-AE14-782282DD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42693-8CC2-4630-A374-AABEAE97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05754-2B75-499C-BF5D-59A6708E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4EA0-95EE-45AA-8095-3B3F62FB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C7F87-38B6-49C5-968E-B55FCB42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990F7-6E39-4F82-AE3B-F183E9E4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27A1A-A44A-49C9-85CB-191F2558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A062A-2A9F-4D2C-98BC-15971310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6D018-F092-4721-9979-BDA90F84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74D8C-759A-4A2F-8AD2-71132349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ED530-228E-4AA4-BE90-8FA05BC6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ADB77-5193-4F9F-AB61-409FC10E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E5B40-AA84-4CDD-95B6-CF091186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B9A40-675E-4DC1-804E-C038ABFD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4C8F-9AAE-4FAC-B76D-718F82C8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54F51-DDA6-42D8-996B-DBCD7E7F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1A736-7637-4267-8844-175FE8FC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60C0B-3E67-4DCC-B93C-D412D100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40556-1A58-435C-AA3C-1C1E3B19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064EC-F491-4747-AF5E-D0DBFC3F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64343-F3F1-49D1-8B34-48A03A42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48C71-270D-4399-9BC8-62B29624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E3475-2B74-4F6C-9253-2E99993F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B006C-CD71-43EA-9DEC-48D60242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5AF46-F4A4-4404-8073-AAB3C923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CA5C-8DBF-484D-A50F-74F7B853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0F61D3-3B56-4139-B14F-9C9168CA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7C09C-F6F0-4D8C-9612-DCDAFFC8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529FA-6658-4E50-9EBA-9260B4CF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2EB72-2763-4D7A-B6A2-AD442678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2F3D9-F1E2-4FD7-B69B-52222DEF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5E91E-DAC4-4FCF-888E-FB8D4BB8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81BBF-4760-40B2-B43A-843B42EC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DB90D7-0B35-4938-B37A-F0CBCDB7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1A093-B5FE-4FCF-95B5-47DDA8EB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FAAB16-D4FD-4941-8EC1-DBB2DE62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272E-A32D-4D96-91BD-CAA66618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74EC2-C3C5-4AC2-9F18-40DA30C8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8A803-D3E6-49E6-8921-51E1D437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6B46B-A6F9-4618-B9E8-A0357853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C3D69-3492-4D23-B08F-2B69822E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6990A-D471-4B38-9029-39279613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DEA85-9398-47AB-9521-39F181FE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3D19E-8CA5-43F7-B0C5-E56278DE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139E6-55A2-4389-B9CB-284893C8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D6F4B-D591-47A9-90E3-AF78EFDF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793C0-9260-4F50-B709-81EA3538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271F-C47B-4535-BB72-D5996292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DBFEF-7611-402C-9AD4-153AC78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2435D-F2BC-4649-B983-00ED8982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CA111-612F-45C1-8104-B941E0FD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BFB6D-B5AF-4E00-926D-17AEB942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B7CEC-FE5F-438B-A982-4DEFC3A3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0EAAD-29BD-4715-8DC1-2B0E79BC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E0276-5118-4AC5-9C06-4C5D21AF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957AC-A219-4EBD-A004-225C6BD1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61EBC0-7B0A-4FCD-B7F2-9EFDBFA7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11ECA-32CB-465A-A7C0-4289C8C0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60C2-B8E8-4477-8FF1-4A14B215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308526-E4EA-437E-A90F-77B6374C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AC8DF-9DE4-4ECA-A1AB-F3404D11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3B5E7-0A3F-410F-A7DD-2FBB79D8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A3A8C-C946-4536-99E7-3A1B739E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0428C-E0D8-4493-8D0E-FEB2DFC8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01E889-1025-4EE9-A9E6-E01A9601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9CC931-6768-4796-B173-CE256256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281D52-B14A-4F4F-A735-7F3D5506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F43A12-3C86-45CD-B4A4-FF325324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BDC156-86E6-48AF-9E01-0C964663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529C-2FF0-4408-B7E1-49FCD743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2DB5B0-8A2B-4206-920B-B3AB251A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BC45C8-DFAC-4561-B2FE-0CA759E6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BDEDE-BA92-46CE-BD84-5557EDAF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6D9B8F-0033-4CF1-9918-C0FC971F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4F112-8FE0-476C-A457-660E2308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9A7AC-655F-4CA9-958C-FBB3C4A7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1AFEEC-761E-4313-B2E5-47A45210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2972CE-BE3B-4E03-88EA-83AC061E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3D579F-9978-4CA4-8A05-39056EFE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D75C8E-2ACB-4AA0-B47C-BD952AAC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7420-3B2A-4103-B3A4-1A99CE3ECF5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A12B-3CD4-49AD-B5F8-B8AC9B936F29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CB98-222B-436C-BE34-6F6A8E799EF4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558D-CA5C-46B7-82F3-849531217C3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2137-0940-4D13-BC59-00DF1189C9CD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B6F4-B65C-4115-979C-7C0FF2BC0A3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6E13-5D80-4C82-9861-66C4BA7D6981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BC64-29D1-410F-9FEE-92608A9872D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1967-FA5A-4D11-9F68-14E5848FFCBE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D56D-445D-4454-AF20-2AB434744C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96FC-A795-4CF8-851A-89D3FC0EDC5C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B2D4-524D-4044-ADC6-082856A781E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C0E5-226B-4387-B197-479D26EF68E5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5AC1-FCCF-46D7-BEAC-03DDD59DE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5AD1-913E-436B-9C37-952E71D92D59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3C41-B7CB-4658-B0DD-8284679F611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46A7-0522-4BE0-B049-2385CDEF16EC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D2CA-2098-4CEE-9C08-601A964EFB5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5674-9FFB-40B0-ABC5-3459773781D1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A942-D860-4EC6-A330-6EFE7CA3C42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4C54-993C-4C4A-AE63-0A615AFCB779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DA96-024C-427B-820C-FC7377701BC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5BB5-C657-415F-B4F1-D9B7299E39C1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vendredi 31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822C-3A27-42E3-A4B0-4CE28CB3DC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randdictionnaire.com/btml/fra/r_motclef/index1024_1.asp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bliotheques.uqam.ca/plagiat" TargetMode="External"/><Relationship Id="rId2" Type="http://schemas.openxmlformats.org/officeDocument/2006/relationships/hyperlink" Target="http://passeurdesciences.blog.lemonde.fr/2012/01/26/le-plagiat-un-mal-qui-frappe-aussi-la-science/" TargetMode="External"/><Relationship Id="rId3" Type="http://schemas.openxmlformats.org/officeDocument/2006/relationships/hyperlink" Target="http://archeologie-copier-coller.com/?p=65" TargetMode="External"/><Relationship Id="rId4" Type="http://schemas.openxmlformats.org/officeDocument/2006/relationships/hyperlink" Target="http://archeologie-copier-coller.com/?p=65" TargetMode="External"/><Relationship Id="rId5" Type="http://schemas.openxmlformats.org/officeDocument/2006/relationships/hyperlink" Target="http://archeologie-copier-coller.com/?p=65" TargetMode="External"/><Relationship Id="rId6" Type="http://schemas.openxmlformats.org/officeDocument/2006/relationships/hyperlink" Target="http://archeologie-copier-coller.com/?p=2499" TargetMode="External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4920" y="178128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a50021"/>
                </a:solidFill>
                <a:latin typeface="Arial"/>
              </a:rPr>
              <a:t>Qu’est ce que le plagiat ?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34920" y="4086360"/>
            <a:ext cx="896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Palatino Linotype"/>
              </a:rPr>
              <a:t>Document préparé p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Palatino Linotype"/>
              </a:rPr>
              <a:t>Frédéric Isel et Yves Goubat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Université Paris Descar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Espace réservé du pied de page 7"/>
          <p:cNvSpPr/>
          <p:nvPr/>
        </p:nvSpPr>
        <p:spPr>
          <a:xfrm>
            <a:off x="360360" y="6381720"/>
            <a:ext cx="1018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© Université Paris Nanterre – UFR PHILLIA - Département de sciences du lang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Image 8" descr="UPL_logo.png"/>
          <p:cNvPicPr/>
          <p:nvPr/>
        </p:nvPicPr>
        <p:blipFill>
          <a:blip r:embed="rId1"/>
          <a:stretch/>
        </p:blipFill>
        <p:spPr>
          <a:xfrm>
            <a:off x="4519440" y="189000"/>
            <a:ext cx="2068560" cy="1079280"/>
          </a:xfrm>
          <a:prstGeom prst="rect">
            <a:avLst/>
          </a:prstGeom>
          <a:ln w="0">
            <a:noFill/>
          </a:ln>
        </p:spPr>
      </p:pic>
      <p:pic>
        <p:nvPicPr>
          <p:cNvPr id="502" name="Image 6" descr=""/>
          <p:cNvPicPr/>
          <p:nvPr/>
        </p:nvPicPr>
        <p:blipFill>
          <a:blip r:embed="rId2"/>
          <a:stretch/>
        </p:blipFill>
        <p:spPr>
          <a:xfrm>
            <a:off x="324000" y="152280"/>
            <a:ext cx="3690720" cy="11160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1" descr=""/>
          <p:cNvPicPr/>
          <p:nvPr/>
        </p:nvPicPr>
        <p:blipFill>
          <a:blip r:embed="rId3"/>
          <a:stretch/>
        </p:blipFill>
        <p:spPr>
          <a:xfrm>
            <a:off x="6877080" y="160200"/>
            <a:ext cx="18651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Informer, Sensibiliser, Prévenir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1916280"/>
            <a:ext cx="91440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 plagiat : informer, sensibiliser et préven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   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z sur le plagiat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DAB4-DBF4-4B81-9201-72D6345F5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Références bibliographiques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8672-AB7F-4416-A7A8-3E7F46389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oneTexte 5"/>
          <p:cNvSpPr/>
          <p:nvPr/>
        </p:nvSpPr>
        <p:spPr>
          <a:xfrm>
            <a:off x="179280" y="1324080"/>
            <a:ext cx="89647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 (2009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es clics et des droits : le droit appliqué à l’imag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, &amp; Association française des documentalistes et des bibliothécaires spécialisés. (2012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Quels droits pour copier aujourd’hui ? : copier et diffuser une œuvre dans l’environnement numériqu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 En ligne : </a:t>
            </a:r>
            <a:br>
              <a:rPr sz="2000"/>
            </a:br>
            <a:r>
              <a:rPr b="0" lang="fr-FR" sz="1600" spc="-1" strike="noStrike">
                <a:solidFill>
                  <a:srgbClr val="000000"/>
                </a:solidFill>
                <a:latin typeface="Ebrima"/>
              </a:rPr>
              <a:t>https://frodon.univ-paris5.fr/http/parisdescartes.immateriel.fr/fr/ebook/97828436513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aurel-Indart, H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u plagiat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Gallim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oreau, É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Les droits d’auteur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Transvalor-Presses des M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Stérin, A.-L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Guide pratique du droit d’auteur : utiliser en toute légalité textes, photos, films, musiques, Internet. 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Paris : Maxima-Laurent Du Mesnil é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504720" y="115920"/>
            <a:ext cx="896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50021"/>
                </a:solidFill>
                <a:latin typeface="Arial"/>
                <a:ea typeface="Arial"/>
              </a:rPr>
              <a:t>Le plagiat :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95280" y="148428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lusieurs définitions et plusieurs formes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95280" y="2997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Définition du grand dictionnaire terminologique 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 Utilisation des écrits d'autrui sans mention d'emprunt » 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(</a:t>
            </a:r>
            <a:r>
              <a:rPr b="0" lang="fr-FR" sz="26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Office de la langue française, 1990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8F0C-A72C-4154-9C4E-464CAA5AB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us généralement, « le 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plagia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consiste à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141300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s’attribuer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 les propos, les productions ou les idées d’autrui, sans citer la source ou l’auteur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0" y="256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s’approprier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contenus disponibles sur Internet, en format texte, audio, vidéo, image ou autre sans citer la source ou en paraphrasant de manière inadéqua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-1440" y="4292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agir de manière à contourner les règl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énoncées lors des travaux d’évaluation.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A5E1-8B02-4169-A362-3A2A84398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a50021"/>
                </a:solidFill>
                <a:latin typeface="Arial"/>
              </a:rPr>
              <a:t>Pratiques associées au copier-coller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0" y="105264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Copier</a:t>
            </a:r>
            <a:r>
              <a:rPr b="0" lang="en-GB" sz="28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le travail d’un étudiant 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ayant suivi le cours lors d’une session précéden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2133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aliser un travail en mode copier-coll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partir de plusieurs sources non citées ou non contextualisée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-1440" y="3141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hanger uniquement quelques mot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copier le texte intégralement (plagiat délibéré ou paraphraser de manière inadéquate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6360" y="4581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iter en omettan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guillemet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36360" y="5157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sumer sans attribu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idée à l’aut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65E9-7850-4BE4-A0A4-3FDF25BA3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oneTexte 14"/>
          <p:cNvSpPr/>
          <p:nvPr/>
        </p:nvSpPr>
        <p:spPr>
          <a:xfrm>
            <a:off x="179280" y="5837400"/>
            <a:ext cx="8785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http://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920" y="115920"/>
            <a:ext cx="93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Ebrima"/>
              </a:rPr>
              <a:t>Plusieurs facteurs peuvent amener un.e étudiant.e à plagier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ne sait pas comment faire le travail demandé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-1440" y="1486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de la difficulté à s’organiser et à gérer son temp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-36360" y="2131920"/>
            <a:ext cx="943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manque d’expérience en matière de bonnes pratique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36360" y="278136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contourner les exigences ; il/elle pense que l’enseignant ne s’en rendra pas compt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34920" y="3789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ise uniquement à obtenir la note de passag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6360" y="4365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défier l’autorité ou perçoit qu’il y a peu de conséquences au plagiat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6360" y="5373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peu d’intérêt pour le cours ou pour le champ d’étu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21FE-A063-46B8-A0D6-959B8C5DC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ZoneTexte 11"/>
          <p:cNvSpPr/>
          <p:nvPr/>
        </p:nvSpPr>
        <p:spPr>
          <a:xfrm>
            <a:off x="179280" y="6275520"/>
            <a:ext cx="8785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</a:rPr>
              <a:t>http://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34920" y="-100080"/>
            <a:ext cx="504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 plagiat :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Il s’agit d’un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cte frauduleux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, lorsqu’il est découvert dans les travaux universitaires, est </a:t>
            </a:r>
            <a:r>
              <a:rPr b="1" lang="fr-FR" sz="2600" spc="-1" strike="noStrike">
                <a:solidFill>
                  <a:srgbClr val="a50021"/>
                </a:solidFill>
                <a:latin typeface="Ebrima"/>
              </a:rPr>
              <a:t>sanctionné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240" y="3068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ogiciel d’aide à la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détection de plagiat (Compilatio.net)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vérification des contenus numériques (étudiants/enseignant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0" y="4292640"/>
            <a:ext cx="91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ttention : ce n’est pas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arce qu’un document ou une information est librement accessible sur internet qu’elle peut être utilisée sans en mentionner l’auteur et l’origin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0" y="5805360"/>
            <a:ext cx="9144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Toute utilisation d’un texte d’autrui </a:t>
            </a:r>
            <a:r>
              <a:rPr b="1" lang="en-GB" sz="2600" spc="-1" strike="noStrike">
                <a:solidFill>
                  <a:srgbClr val="a50021"/>
                </a:solidFill>
                <a:latin typeface="Ebrima"/>
              </a:rPr>
              <a:t>doit respecter </a:t>
            </a:r>
            <a:r>
              <a:rPr b="0" lang="en-GB" sz="2600" spc="-1" strike="noStrike">
                <a:solidFill>
                  <a:srgbClr val="a50021"/>
                </a:solidFill>
                <a:latin typeface="Ebrima"/>
              </a:rPr>
              <a:t>les règles de ci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3C6F-0A90-4978-8CFE-7CF4D8082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21337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s étudiants convaincus de plagiat peuvent être traduits devant la </a:t>
            </a:r>
            <a:r>
              <a:rPr b="0" lang="fr-FR" sz="2600" spc="-1" strike="noStrike">
                <a:solidFill>
                  <a:srgbClr val="c00000"/>
                </a:solidFill>
                <a:latin typeface="Ebrima"/>
              </a:rPr>
              <a:t>section disciplinaire de l'Université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4920" y="-162000"/>
            <a:ext cx="1130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Sanctions disciplinaires applicables 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En fonction de la gravité des faits, les sanctions disciplinaires applicables aux usagers sont les suivantes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81E2-5735-412E-9192-706ABA05A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2709720"/>
            <a:ext cx="914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’avertissement, le blâme, l’exclusion temporaire pour une durée maximale de cinq ans ou l’exclusion définitive de l’université ou de tout établissement public d’enseignement supérieur, avec ou sans sursis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179280" y="115920"/>
            <a:ext cx="8569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ctures web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ZoneTexte 3"/>
          <p:cNvSpPr/>
          <p:nvPr/>
        </p:nvSpPr>
        <p:spPr>
          <a:xfrm>
            <a:off x="250920" y="1557360"/>
            <a:ext cx="84978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Le plagiat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Service des bibliothèques de l'Université du Québec à Montré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2"/>
              </a:rPr>
              <a:t>Le plagiat, un mal qui frappe aussi la science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Passeur de sciences »,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3"/>
              </a:rPr>
              <a:t>« Février 2006 : bilan de l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4"/>
              </a:rPr>
              <a:t>’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5"/>
              </a:rPr>
              <a:t>analyse de 30 mémoires de DEA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0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6"/>
              </a:rPr>
              <a:t>Les bibliothécaires face aux thèses plagiats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0DE1-7BD3-41B6-B7B7-900AA516F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50920" y="442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Tutoriels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0" y="1413000"/>
            <a:ext cx="91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Comment éviter le plagiat ?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 Comment citer dans le texte ?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E67A-428F-4251-9A3F-F6E960D4D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8:53:43Z</dcterms:created>
  <dc:creator>François</dc:creator>
  <dc:description/>
  <dc:language>en-US</dc:language>
  <cp:lastModifiedBy>lacheret</cp:lastModifiedBy>
  <dcterms:modified xsi:type="dcterms:W3CDTF">2018-09-21T12:42:16Z</dcterms:modified>
  <cp:revision>96</cp:revision>
  <dc:subject/>
  <dc:title>Slide 1</dc:title>
</cp:coreProperties>
</file>